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5A8-DCDF-4F88-BBCC-0FCB120E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3DC-6350-42B8-BD35-AADE9A4E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CE8-8BE3-4D09-8D6F-FFDC4AA0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7BB-2213-4617-ACFA-19755EA1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A3CA-55C6-4BEC-BFB5-2792461A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51DB-9681-45C7-96C2-15D9CCFF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5BCC-2C6D-46BC-A8D8-488FC2AB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42D4-620B-4F28-9E93-753AFDD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2A18-CB71-4E56-A529-E785081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F184-1B65-4D01-99CB-C2BB1EA8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C10B-26B0-45E9-BFA4-906967C6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7F0-40C1-4B9F-B3BC-9F941D25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51E4-9F32-416C-AF6F-8586E6E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4092-C80A-424A-93D5-1610C97F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C5E8-1AA1-4206-8F67-2C7960B1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4272-5F8C-4E53-8FA2-795B740A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B972-6D60-4B3B-B8CD-F7EBE6A5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A0447-CCE2-4D57-887E-888E3BA6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BE251-6CA5-4693-82E0-FF64A44D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A7C5B-246B-4023-9544-A90A9656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40376-ECB8-4CF6-AE20-47FF00EB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48670-92FB-41BA-ADE0-38D0ED52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0C6-B3BD-459F-AD60-BEAA4FB5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D27F4-E459-4036-B4BF-CD05F03B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52DB3-0F58-4042-A214-84D2B9A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5E36E-AD73-477F-8543-3BA71B13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DCA5D-4DB9-4583-81DF-DFAC84AD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6B5B1-C238-4142-9F07-445958F0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F8105-6B1D-4A6E-B01E-4710D9D2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E1A09-40CE-4564-9195-2170B7E6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2943-A394-408B-A45E-57777F54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FFEE-0067-47F1-A77E-6D30E488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2B19-4A89-4857-B396-4FA768F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05E-8F68-45FE-927D-4AB65B09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21F2-93C7-4C0D-9C57-7BAF69AA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CE7C-BAD0-4044-9FF7-2117B2FE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5186-F637-42B4-A43A-CDDFB69D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0C7A-DB18-4B44-AEC2-58D05A6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CFB8-0094-4983-A33E-8DD5363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74C6-6930-40B5-967F-062D333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095B-5C1E-409D-B133-E05A31DD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2A91-4399-4C55-896D-CA54220D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DCF1-8A60-4C49-B8FF-CA04DED3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BF92-007A-4F7C-8D29-9521C290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0E1-98A4-46A7-BBFF-E61FB80C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2013-92A7-4375-8832-66C1DA97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A64E-A563-48D9-B562-46962ABA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48D8-FCBD-44E5-ADC5-651B90B1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17965-5759-4A75-85D5-2F40F867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3D807-BA93-48EF-8F4C-E9539A6E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712E-9D36-4BA5-8B49-4E83B55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0595C-7FF2-4D89-92BC-E3A1470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0C73A-7DE7-4BA6-8B73-3A8C6564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FE3D2-6B60-451C-B9D3-1D99F758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1B809-042C-469B-AAAB-A12D0CDE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5CF-27C4-421D-9F6E-6D20108A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67F4-6682-4E18-A69B-B303D9F1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F6FE1-96A9-42E6-B238-F3FB7DB1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CD97E-DB98-4AD6-921B-67C4E9AB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5E85E-E9D1-453D-A376-EE096E51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475D5-4ECA-4FC7-9E7E-4721EB56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8081-493A-4C3B-971E-54FCB1FC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9D8B-D05A-4DA0-BE66-61C745AD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CFC9-895D-4712-8F46-45F2B5B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277C8-8649-4C33-96CB-38D9B7D0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9279-0BCA-49C3-B0AD-F9671B5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E80-E18A-41FE-95CC-70FF36E9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B59F6-1073-401A-829D-43923D98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C2575-1908-41A8-A619-8B4CB419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13846-044D-497D-AD26-E7AB3F64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FCA0F-1325-4AC1-97F8-9902390E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46248-086D-4B3C-B0A2-B68135B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D57AB-3FDD-406B-8AEF-F65DBE6A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D2AC0-E98A-4C8E-8F88-1FD6AA0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A3BA5-3D37-4DF8-9B36-622C3F85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19E30-0517-47BF-BC10-F84CD3C2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F320-BC9B-4955-B743-55C2B274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806-FBD4-491C-96EB-625B123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23B4B-DB5A-4440-B52A-D9B68293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F458-4C99-435E-87A8-1BD814E0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7F847-FAA9-466A-9B64-B1C26B6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2218-1B00-4BED-A526-3F251A19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848B8-F880-48D5-8224-2D48403A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DAF-06BF-4449-83C6-7A2EEB15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9062-8DE4-4CAD-A26E-C9B081127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40B8-5773-44CA-B971-6A366582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081D-FC7C-4A0D-A4D0-E19931F6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8D25-08A8-470D-AB3A-8BE1E8F4F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26F0-EDD3-4FA0-B159-9F98E3B6B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6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6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6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6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7D91-1AE6-4C71-AAED-AB7FCD85A95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3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3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4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5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E731-55C5-4AAF-9B8B-47625BE77CA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law.ou.edu/hist/flags/stflagmtwy.shtml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6858000" y="4419720"/>
            <a:ext cx="228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se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#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350532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533520" y="5943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 States, Kentucky State Song,4/10/201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0states.com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: Tr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: 8,414,350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ed The Union: Dec. 18 1787/1660 it was the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to: Liberty and Prospe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ckname: Garde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er: Violet (Viola Solar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: Eastern Goldfi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g: I’m Form New Jer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 Behind Name: Named after the Channel Island Jersey by Sir George Carter that came from New Jer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Jersey is located: 4.723 N and 74.764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ous people from that state: Jon Bon (musici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That Boarder New Jersey: Delaware, Pennsylvania, and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8680" y="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410080" y="63244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858000" cy="441972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828800" y="5529240"/>
            <a:ext cx="6324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versity of Oklahoma, US State Flags, Thursday, March 22, 2012,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law.ou.edu/hist/flags/stflagmtw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30492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flag of New Jer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New Jersey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600200" y="5791320"/>
            <a:ext cx="5730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57150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5486400"/>
            <a:ext cx="6248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New Jersey Map, Thursday, March 22, 2012, http://www.enchantedlearning.com/usa/statesbw/newjersey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23880" y="22860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p shows all the towns and capital of New Jer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All images Copyright © 1997 - 2000 WriteLine. All Rights Reserved. Washingtion Crossing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39625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1066680" y="5867280"/>
            <a:ext cx="7010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st Cards From, Washington Crossing State Park, Titusville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NJ, Thursday, March 22, 2012, http://www.postcardsfrom.com/t1/arc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228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is is a post card on were Washington landed with his tr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1:37Z</dcterms:created>
  <dc:creator>install</dc:creator>
  <dc:description/>
  <dc:language>en-US</dc:language>
  <cp:lastModifiedBy>install</cp:lastModifiedBy>
  <dcterms:modified xsi:type="dcterms:W3CDTF">2012-04-16T13:04:36Z</dcterms:modified>
  <cp:revision>11</cp:revision>
  <dc:subject/>
  <dc:title>Slide 1</dc:title>
</cp:coreProperties>
</file>